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D04-BC58-4212-B798-4258A89E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A56-729D-4E0D-A7DB-CC9B5A6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F491-807D-453F-9F38-4BE1444F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EC990-4CA4-464E-AEFD-623E9E93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F38A3-80B1-46F8-B398-74F3C3E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E6C12-2429-499E-811E-52DAF00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2034-9236-4460-82D8-33F9C85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910D6-1C89-4D9C-880B-EDA997D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2191D-A328-4E77-96EE-F8FE27C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9CB3E-D3B1-43A9-BFDC-EF25BCB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E5A45-503F-4A09-87E9-F48265F6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1E143-7EA7-47CA-B156-79B32F0E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AB88-E034-4ECC-ACF7-A98EA420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67EBD-0F1A-4699-AF9C-A74995C7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14A4F-1B29-4DB0-8739-B1D219D9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15FC-BAD3-427C-9B85-749F8409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77C5-9DEF-454E-B3C4-EB91F8C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23993-8BE1-4D96-81C5-0A55F5E9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89E0C-4078-4258-975B-18B2F6A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1CAB9-ADE4-43D7-881D-A8847839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C013B-58CD-4D74-8FB4-2B604D80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BAA75-A493-42BB-B15A-20DE2AFF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6EF3F-2866-4E1F-ABAD-988C0796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C02-F3CA-4984-9475-8034E50C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2EA4-7820-4BA9-816C-A20A8277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A19A-DE47-4099-A249-EED0391C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75DB8-0BAE-4CC8-ABD5-E34E337E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FFF2-22DC-450A-9013-C7F91983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E17F9-56E3-4096-A723-3293DE47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05B95-01E8-4331-B9D8-777D129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68D09-C28B-435F-9E79-908CC2E6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D3299-9E94-482F-A590-D57B953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53A53-E8C0-4DEA-B237-7D4D05D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9B60-2850-4A19-8544-5BAF156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877-46AF-46C1-8CCC-FBF2ADF0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20339-86D5-4C68-AD2F-1BEAEEED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FD19-9890-4D35-A843-11451455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4905E-1CD5-4E26-A1A2-B54BE71A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48C01-697D-4DDC-ADAC-1C454C3C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09218-2A89-49E2-914A-687AF001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993C6-0850-4303-B1F5-AB7405A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427C4-7E8A-458E-A785-9A8D9EC2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DEA69-4D2A-4B90-A290-8A88B7DD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89F41-AAF0-456C-9728-5869B203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C48CF-5362-40F4-8864-6BA6799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DC2-3A34-41A5-B162-D048F97F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78B72-4185-4D4E-8BFD-332A8AB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83440-C708-41C9-BBB6-6941C0A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7FBAB-2892-44DE-83E2-8982756C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E933F-4374-4C5C-A10C-55B5B3FB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1C774-D2AF-4AC6-B95B-1D991299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82106-5A31-4EB0-935B-AE1F2F9B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A74B9-C001-4E4C-8C8F-9AE68BA0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BA2E7-C43C-4B99-9137-1D7E4D5F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915D1-8A2E-44AB-8463-1FDF9103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06995-784B-42C8-9B2D-86906412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2B62-0827-48E2-8DEF-AFA7F8A4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CD2F1-49BF-4373-974E-024B627E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722B1-B740-4C02-AEB8-9A82F6F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A7B94-E1AC-4F03-9966-42E9EAD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ED944-470D-4190-A11C-463615BA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C604C-9EE6-4C3D-8E5D-82E948E7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8D924-F572-45B7-B27A-3543A5F3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E9E53-7F68-415C-8BFA-3E268337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19FAD-5EB0-48E6-A65A-26E48D6F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FDEE7-3DC9-444B-927A-CA27F1B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F2E21-4291-4DB3-8E2B-28888FAB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4B54-830A-4C9F-9FC2-EA57CB41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616F1-80D4-4576-ADED-5759CAAD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876AE-6D09-418F-B7E8-A47D3F0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7B08E-E276-4940-84AE-FF2E2C7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02260-155A-48F8-9270-CC2EC20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E1E36-1D41-4DDE-8A08-FBDE2E8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B7E84E-0445-46B8-9A5A-994C0378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7EF2F-31B9-4B53-AB7D-C518326B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EF885-8807-4BDA-B630-1F39733F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5529D-7299-4098-AEB0-D337A269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F0BF31-EDCF-4295-B28B-979D51FE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78B-DD7B-4CD6-B349-A66F75B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3CE0B1-545C-415E-83DA-8ECC4114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7BDD1-463A-4D67-B4D2-155527CB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AF49D-0A52-4CD9-AFAA-41836484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F808C-3EFA-43DF-B457-BEBCD4C3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3B880-7A97-4E6E-A18A-E35B5F04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73B0A-1187-4C25-AFEA-B9C4D8A9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4DF45-33FD-4EFF-9EF0-B1D45113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8885B-D379-4ADE-AF8E-A1D21F6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84D239-53E9-4C64-830F-93DAFD5C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AD37E-1DA8-4CF5-BB83-8DB202A0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B95-4F69-42CC-B3D8-16C9CB9E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DAFA6-597E-482B-B6AD-041D370C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86AB7F-8AB2-4A78-B8AB-A5B4C956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B19122-A445-4C94-B27A-933B9AC3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ED478-EE2E-4B2C-A5EB-0AD718AA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6840B-6328-4BCE-9B2A-85257FFE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27D3F-979E-4283-B330-498505E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E9327C-670F-451C-BFDD-6B332527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9EF09-2C49-4EB4-9EE9-6A050568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EECD2-91F3-4302-B0EB-9FA17D63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1C742-A433-4014-8BF1-8F47E12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7ED-C455-444D-817D-B0257FF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543104-1DF4-4F66-BBFE-F65C4C0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B75DC-3C1A-4AA9-8D5D-69D8E899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DBD1C6-437B-475F-AED4-AB3DB168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0F9F2-29F3-4DE0-B351-28D10CC6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A7E62-A977-49D5-919B-ADCA22B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4EF17-6CDB-481F-BD15-6A8A1360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C1516-8E03-4798-A3B5-D1C32163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95DB3-EF75-4039-834A-A4D4147B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81233-0D20-404A-A55E-B53900AF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0D6C1-25C4-4E3E-A89B-B085CB6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B3D-BA8D-4083-82B6-52BCE6B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3A3-53D2-41AD-AC9B-62177F1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DE5CA-9840-4CA0-919F-A09C4713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D79A0-8BCD-4C9C-9926-4AA5564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B47700-0FA1-4AB9-AE05-02A87816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159F49-0147-44CD-9E20-14C41342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07FD3-97B2-4384-925A-BBBBF1D3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FD994-098A-49DE-8F44-5B485751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E225F9-47BE-45BE-AC31-689E9A38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37785-057C-49EB-BD43-957F5B52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EE4E9-2576-4D06-95EA-256280C9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67BA4-FF28-4696-8790-DA982C38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F310-98E8-4576-8316-5598EDE6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8B12E-2DBB-4EC5-B394-D7553EF0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FDAA4-61FF-49B3-9C31-FC054D1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3B66A-047D-4570-B167-B27D6681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A5185-970D-4EEB-A190-7FA77CD2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68CD11-3555-4B4E-A675-A75E134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19C68-5D56-48E3-9166-61E4211C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06B12-DE20-4B93-B266-ACA6ED28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6D66D-0D87-4A80-A7C0-A8B3016D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6EAB6-F97A-4B7D-B552-787782CA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29DF39-0274-43D3-A4ED-137AF679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909C-9543-453B-8839-2FBFDB3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E1F051-3486-4D28-BC2D-53AE3704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4D554E-870E-440C-9BF9-4E7BE9C2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6BF81-100B-4464-8291-FF7E803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70CC2-640B-4A49-A922-976DF2BF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F8221-39C4-41FD-8C8A-56E9CC86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B0F2B1-CCDC-42C0-A4AF-17A81F7A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EB0DC-A1FD-42AB-8AC0-E98E0370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DDF7D-7717-47E3-8842-EB8AEA12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37B85-8119-42C3-BBB8-CB230D77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BC552-F875-4226-9957-AA43F37A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F139-BDFA-4F3E-97A0-A8188D4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D6C34-E068-4676-8886-95ABDAC4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EFCAF2-C90D-49A9-A081-B610287C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0E4F1-CEC6-464F-94A0-61105753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20B4C-BA64-4CE3-BF0C-61BD761B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8281D-5278-4BCA-AA93-AE99963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1E8F0-AC1A-407C-9A2D-F8039DD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B4B4B-6F05-4D2A-BB5D-923047FB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6BDCD-4E88-4DEB-B70E-E9B407D5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5C4EE-9EC5-4275-9313-F0C33518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E9876-DFFA-466B-A33E-0FFEC3D0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9EB2-135B-4E93-80FB-FA61E816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DC9A2D-8879-435B-97E2-126E0EE6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751BD6-B714-4168-AD26-43F2C70F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F18DD1-3F6D-4A2E-A225-58C9013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3181F-CA13-4D54-BACA-EE7D48B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5EAB1-068D-48CD-B7B3-23A99CBE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C53D70-D8D6-48DF-B37B-F7E1DF5C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F5EF6-1576-4FB3-9242-2B877AB5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4C5A7-84F7-4B3E-B05F-02AF5F2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3EA89-F8E7-4B49-A01D-922C1B0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57A8E-D0B0-434E-B3EA-93ADAAD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8DD9-CC99-446F-B979-B02665E3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878A41-1277-41F4-81CF-4DC980FF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8376E-D6B8-4317-AFD0-1D277E1F3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F63F5-5913-42C0-BF2C-EED916D3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78C10-9A1B-4CF3-9415-ACA2F415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CDC71-28BA-4766-827B-9A4B6E4B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7E1F88-5159-44E5-99F8-6E676A00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D81B92-B981-40D8-BF9E-5CD6DD51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ED2C2-8B0E-4F6D-A049-92CBEF71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858DD-BF4E-43A6-8816-B298FB1A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05F43-4CCF-4141-A9B4-54289EB6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67183-D544-48B2-A5D1-2241736B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2AD661-05CF-4DB6-AA42-295BB994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421E61-51D5-42B4-8FCD-8AFA7988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105FDF-0F51-45E5-8584-5B32B2D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20CA7F-FBB4-45AB-A208-F998B745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2D5524-909E-4C66-8A06-E866BB61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1E5473-3BA9-474D-95C8-75942577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4E3561-1A1F-4DB0-B533-DAD42589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FE378F-8770-4EDE-A032-3A2F0290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92A1DC-7B37-4693-A9B3-E3781B66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9AEAE-39DB-414A-A6A7-F6EA3F3F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6C9F-888E-4093-B5F2-80F572F0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CCA74-E005-415C-A01C-4B210320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7699C8-75CF-4312-9F73-CD1AFB33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84954-0AA4-4EC9-982D-11963C86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BCB0CC-AFB8-4A5C-95CB-94CE2DE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E248CC-AF02-4813-8855-E7F4358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120C8-18B5-4A1F-8F38-B5BC3208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482145-A42F-4A11-943A-CEB5660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2F76E-2194-4F1C-9F24-AA4F1CA1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C26D-EE0F-4F9F-9947-6DCC2CDB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B2B-049F-4A1E-8EF3-8098B50D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8C329-700C-4435-AE42-1DA996CB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F03BB-185E-434C-9DFB-081F572F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A3F5-9948-4696-9D1D-505DB87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714E1-9827-4C55-AFBC-6F3005F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B9B52-D095-4646-B8B7-BDA715C0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064A-1569-4ACA-BF4E-0E14B1F9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B587-71FE-412B-B4C9-880D91EE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F7ACA-C1E1-4F7F-B2E0-6D88F6B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B2325-0FF6-4AAA-B02D-EE6EF9E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643A-8048-43A4-8893-2B1FF054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AD92-60BA-4760-8E15-D5318326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19A0-93E2-43C3-B529-6D4B10B7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C3E90-69E3-47C4-9DC2-C7B36191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62B2-7286-450E-B6A2-FF043C0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5FC8-85CA-4346-9DF7-00563036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A8D6-3BE9-4C3D-9844-A633B97A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03487-0AD8-4807-A86D-D81697C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E8D96-6D9A-412F-8358-11AB5D4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8DCE5-0D94-498A-B585-C516BC41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50B3-F18B-4A52-B4FB-8FBE451D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BC33-E8BD-41E4-8A44-517C3F08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2A5-DBDE-4136-B0F4-FAC744EE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3CCE5-958E-41C6-9ED4-C0E2947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B0254-4094-47EB-BBB2-292E64F2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D6843-3147-4A02-A769-2622A181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FDBB-0ED0-4730-B9B2-1E33464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65C07-395B-4CAC-9856-B62A6B1F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03CC9-8474-40F8-B0EB-22717EB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C0DB-5A8C-457F-BDE7-A8B54111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6021-7B79-4B02-BF59-870BAEB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AF67-915D-429F-822E-6016B69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956A-7A7C-4690-836B-61008F1C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BFF-9F5F-41C2-99D4-A882D563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56DE4-475E-4D9C-AB4F-13B68252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78DF-C0B5-46C6-8927-BC4757B9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2D06B-92E1-4B61-8C3C-BC286C5E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44962-5754-4A64-B4F5-AEE3E669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5E18D-5C34-45A1-95B5-A251FBB3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AFCD2-BF7D-4AB7-AB35-DD9D515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17BA-0A25-4684-A9C7-CD7949B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EF98-3072-42FA-AB36-74FE05D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9906-31DC-48E4-94A4-49207BA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E809-FE2D-474C-8BCD-5084996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FD4-7A4A-476B-83DA-CE8FB4CC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C93BE-4006-4BF0-8301-889DF5D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13A1-037A-4BFC-BF57-9458354A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3D63-E350-4B4E-8C8E-4BA6F3A8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10304-B97E-40A8-AD18-738ACA38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FCCD-F7BA-4856-8FBA-CACA5C28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2411D-F897-40F9-914F-F63C3317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46FD-C1EB-446E-A22E-17A56095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520C7-D63D-4F2D-83E2-52FF237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12825-1B6D-4823-A979-D544FFE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D3935-00AD-47FB-9BE7-ED14B7E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643-5452-4B74-8A15-77B273CA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7D75F-7E4D-4404-88C7-8EDD0B1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76BA-D4FB-46E5-87FD-701E9D3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29D6-AB0E-4C55-A462-F5828D1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0504-196F-4A5B-8480-3C65DD134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446D0-3E64-4775-8D87-D5AEB02E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0ECBA-AB30-4FAE-B270-33FDF487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904E0-F078-4E3F-8C37-1257429F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E5191-FA5F-40FA-B825-E3AE73FA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4DBE-9084-4A0A-A0D7-9354E288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925EC-550D-4F9F-9D9F-D935CE8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BC9-6638-434B-AEC9-5C787C5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741C4-8571-4BDD-A621-D6BF65AE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7D12-8F2D-4151-8C4E-DDFE842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2482E-B991-4C15-93CC-F6587A61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58DD0-2814-4E76-9C69-51047FC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31F56-C297-4BD2-A54E-8BEA9CA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3F9E-46D0-4C9D-9F12-BDB033C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E3DDC-2732-49C2-A065-AEDD777E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8E367-17DB-413A-B171-28B375BC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E7516-D029-4778-AD5F-F733BBE8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EC869-89C0-44B4-89ED-D4A05DA7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F43E-5C48-401F-80F8-FDA4B9B150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E0E6-DB19-45FE-A4F3-70644F68BD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9AB-69FC-4B8F-9156-941C2D4D5D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D31E-EA34-432A-9EEF-D88188894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0EA9-3377-40E7-99F9-B84550402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BD0F-63F6-43FA-B897-7B27C61A25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94E-6FC3-41B3-89AF-DDF0494F2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F61C-ECE3-4BD2-BEBC-108DDF488A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590-E9FB-4F9D-BFFF-8E3115801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B55-6375-4EDE-BB7E-DB63C24DB6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15DA-EDD9-4AEE-A416-A3D517D93D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5D8C-F531-4762-98A6-D5582BA9ED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902F-1B17-4AC3-841A-AF9EEA140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ED48-2DD8-42F5-9FED-8C0A326A9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1A4-0F4A-4882-99C7-2B0A074023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DE0A-144E-4602-8961-61458D1F6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3F64-9C1A-48FE-A2F0-171BFBBAD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0C2C-81A5-4B73-A03D-176EC7D997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3584-38FA-4C8F-B5DA-524AA472F0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F08-4FD5-423E-8E47-8D9AC4F718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D581-F62C-451D-8C85-F1705FB84E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B464-DBA0-4ABA-AC54-76F50A17D0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E43-B3B5-481C-9568-D7EFB86337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883-86B2-4F6D-B351-FAEC80F28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6BE-46B9-4004-9BD2-489E60C48D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5C66-3A0C-45C6-B196-92D4403343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4190-EA6A-49F8-8774-6772A9AE5E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4048-A69C-46BC-A4C6-1B978ACC8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E416-0A7A-4EC9-ADD3-DE909CD222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60E3-99B2-4C22-88C1-3D6EC0243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0D0C-8ED7-4220-B912-E5BDBEF55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13D-AB4E-4CCA-8C5C-55A3E01347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8355-4C06-4FD8-A923-48B07A0DF5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4D9-2D93-4E92-9FE6-FEF80FA919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5DB5-7F71-4325-A3BB-E5420B21E8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6A81-EA26-45D4-86A7-4123951DC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9F12-31AF-40BD-957E-CB8CFDDBF4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2D3A-9A4E-433B-9DCE-D6AABC62C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2A23-8C7D-4612-9990-C7BCFF4669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740A-3265-41EA-BE43-B5894D4EF4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7E0-8282-409B-844C-8A5DB58506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A105-527F-4D37-B4AA-4ED0D1949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44360" y="3171960"/>
            <a:ext cx="86248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4160" y="861840"/>
            <a:ext cx="6295680" cy="5134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2195640" y="413532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2124000" y="4667400"/>
            <a:ext cx="36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328680" y="1077840"/>
            <a:ext cx="8486640" cy="174312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636560" y="3475080"/>
            <a:ext cx="6382080" cy="2305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41964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22840" y="1427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867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101080" y="14698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317080" y="193032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49236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3564000" y="47242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665964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732720" y="46674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705520" cy="57909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43280" y="234936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62728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292428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1806480" y="60213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7093080" y="599292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71680" y="2533680"/>
            <a:ext cx="8001000" cy="17906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5580000" y="3255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3592440" y="3673440"/>
            <a:ext cx="908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23840" y="2252520"/>
            <a:ext cx="7096320" cy="23529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5219640" y="3500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148360" y="407664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04840" y="1071720"/>
            <a:ext cx="8734320" cy="47145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201680" y="2550960"/>
            <a:ext cx="2232000" cy="30387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5665680" y="2565360"/>
            <a:ext cx="3227400" cy="3038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451640" y="19303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652320" y="985680"/>
            <a:ext cx="7839360" cy="4886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2987640" y="109692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4960800" y="1628640"/>
            <a:ext cx="2924280" cy="4105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7048440" y="109692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71520" y="1050840"/>
            <a:ext cx="8400960" cy="54104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2556000" y="5589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435640" y="2852640"/>
            <a:ext cx="295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633240" y="1143000"/>
            <a:ext cx="7877520" cy="4572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2325600" y="4797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18960" y="1219320"/>
            <a:ext cx="8506080" cy="441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34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00000" y="4984920"/>
            <a:ext cx="763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8:4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